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0279975" cy="428085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82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8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F000C4B-5824-4567-9148-039719A565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217600" y="685800"/>
            <a:ext cx="2422080" cy="3428640"/>
          </a:xfrm>
          <a:prstGeom prst="rect">
            <a:avLst/>
          </a:prstGeom>
          <a:ln w="0">
            <a:noFill/>
          </a:ln>
        </p:spPr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イズ用テンプレート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ページサイズが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イズになっていま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余白やフチが必要無い場合は端まで描画して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入稿データにする時は「ＰＤＦ形式」で保存して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C74F481-1BE2-47E9-9B64-C19A323A26A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3800" y="1707840"/>
            <a:ext cx="27251280" cy="71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8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3800" y="10017000"/>
            <a:ext cx="2725128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1513800" y="22985280"/>
            <a:ext cx="2725128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3800" y="1707840"/>
            <a:ext cx="27251280" cy="71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8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13800" y="10017000"/>
            <a:ext cx="1329840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5477480" y="10017000"/>
            <a:ext cx="1329840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13800" y="22985280"/>
            <a:ext cx="1329840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15477480" y="22985280"/>
            <a:ext cx="1329840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3800" y="1707840"/>
            <a:ext cx="27251280" cy="71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8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13800" y="10017000"/>
            <a:ext cx="877464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727640" y="10017000"/>
            <a:ext cx="877464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941480" y="10017000"/>
            <a:ext cx="877464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3800" y="22985280"/>
            <a:ext cx="877464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10727640" y="22985280"/>
            <a:ext cx="877464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19941480" y="22985280"/>
            <a:ext cx="877464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3800" y="1707840"/>
            <a:ext cx="27251280" cy="71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8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1513800" y="10017000"/>
            <a:ext cx="27251280" cy="248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513800" y="1707840"/>
            <a:ext cx="27251280" cy="71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8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1513800" y="10017000"/>
            <a:ext cx="27251280" cy="248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13800" y="1707840"/>
            <a:ext cx="27251280" cy="71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8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13800" y="10017000"/>
            <a:ext cx="13298400" cy="248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15477480" y="10017000"/>
            <a:ext cx="13298400" cy="248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3800" y="1707840"/>
            <a:ext cx="27251280" cy="71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8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1513800" y="1707840"/>
            <a:ext cx="27251280" cy="331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3800" y="1707840"/>
            <a:ext cx="27251280" cy="71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8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13800" y="10017000"/>
            <a:ext cx="1329840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477480" y="10017000"/>
            <a:ext cx="13298400" cy="248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1513800" y="22985280"/>
            <a:ext cx="1329840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3800" y="1707840"/>
            <a:ext cx="27251280" cy="71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8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3800" y="10017000"/>
            <a:ext cx="13298400" cy="248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15477480" y="10017000"/>
            <a:ext cx="1329840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477480" y="22985280"/>
            <a:ext cx="1329840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3800" y="1707840"/>
            <a:ext cx="27251280" cy="71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8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3800" y="10017000"/>
            <a:ext cx="1329840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15477480" y="10017000"/>
            <a:ext cx="1329840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513800" y="22985280"/>
            <a:ext cx="2725128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テーマ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  <Words>48</Words>
  <Paragraphs>5</Paragraphs>
  <Company>Hewlett-Packard Company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7T09:16:59Z</dcterms:created>
  <dc:creator>岡智之</dc:creator>
  <dc:description/>
  <dc:language>en-US</dc:language>
  <cp:lastModifiedBy>岡智之</cp:lastModifiedBy>
  <dcterms:modified xsi:type="dcterms:W3CDTF">2016-04-30T08:28:50Z</dcterms:modified>
  <cp:revision>7</cp:revision>
  <dc:subject/>
  <dc:title>スライド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ユーザー設定</vt:lpwstr>
  </property>
  <property fmtid="{D5CDD505-2E9C-101B-9397-08002B2CF9AE}" pid="4" name="Slides">
    <vt:r8>1</vt:r8>
  </property>
</Properties>
</file>