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0279975" cy="42808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8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F02661-24EA-4480-9A1C-E8216AE98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217600" y="685800"/>
            <a:ext cx="242208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F294C1-7C7E-42EA-A9F3-DF6249D7389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2725128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513800" y="22985280"/>
            <a:ext cx="2725128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1380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1547748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727640" y="1001700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941480" y="1001700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3800" y="2298528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10727640" y="2298528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9941480" y="22985280"/>
            <a:ext cx="877464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513800" y="10017000"/>
            <a:ext cx="2725128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2725128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513800" y="1707840"/>
            <a:ext cx="27251280" cy="331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51380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24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477480" y="2298528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3800" y="1707840"/>
            <a:ext cx="2725128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380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5477480" y="10017000"/>
            <a:ext cx="1329840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13800" y="22985280"/>
            <a:ext cx="27251280" cy="11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  <Words>48</Words>
  <Paragraphs>5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4-30T08:28:50Z</dcterms:modified>
  <cp:revision>7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