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799763" cy="3060382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2365200"/>
                <a:tab algn="l" pos="4730760"/>
                <a:tab algn="l" pos="7095960"/>
                <a:tab algn="l" pos="946152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2365200"/>
                <a:tab algn="l" pos="4730760"/>
                <a:tab algn="l" pos="7095960"/>
                <a:tab algn="l" pos="946152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2365200"/>
                <a:tab algn="l" pos="4730760"/>
                <a:tab algn="l" pos="7095960"/>
                <a:tab algn="l" pos="946152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2824200" y="685440"/>
            <a:ext cx="12096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365200"/>
                <a:tab algn="l" pos="4730760"/>
                <a:tab algn="l" pos="7095960"/>
                <a:tab algn="l" pos="9461520"/>
              </a:tabLst>
            </a:pPr>
            <a:r>
              <a:rPr b="0" lang="en-US" sz="11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1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62"/>
              </a:spcBef>
              <a:buNone/>
              <a:tabLst>
                <a:tab algn="l" pos="0"/>
                <a:tab algn="l" pos="2365200"/>
                <a:tab algn="l" pos="4730760"/>
                <a:tab algn="l" pos="7095960"/>
                <a:tab algn="l" pos="94615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2365200"/>
                <a:tab algn="l" pos="4730760"/>
                <a:tab algn="l" pos="7095960"/>
                <a:tab algn="l" pos="946152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2365200"/>
                <a:tab algn="l" pos="4730760"/>
                <a:tab algn="l" pos="7095960"/>
                <a:tab algn="l" pos="946152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2365200"/>
                <a:tab algn="l" pos="4730760"/>
                <a:tab algn="l" pos="7095960"/>
                <a:tab algn="l" pos="9461520"/>
              </a:tabLst>
            </a:pPr>
            <a:fld id="{82547445-1402-4377-8895-A61820850BC8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2824200" y="685800"/>
            <a:ext cx="1209600" cy="3429000"/>
          </a:xfrm>
          <a:prstGeom prst="rect">
            <a:avLst/>
          </a:prstGeom>
          <a:ln w="0">
            <a:noFill/>
          </a:ln>
        </p:spPr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2365200"/>
                <a:tab algn="l" pos="4730760"/>
                <a:tab algn="l" pos="7095960"/>
                <a:tab algn="l" pos="94615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600×1700mm</a:t>
            </a:r>
            <a:r>
              <a:rPr b="0" lang="ja-JP" sz="3100" spc="-1" strike="noStrike">
                <a:solidFill>
                  <a:srgbClr val="000000"/>
                </a:solidFill>
                <a:latin typeface="Calibri"/>
              </a:rPr>
              <a:t>サイズ　バナースタンド用テンプレート</a:t>
            </a: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】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2365200"/>
                <a:tab algn="l" pos="4730760"/>
                <a:tab algn="l" pos="7095960"/>
                <a:tab algn="l" pos="9461520"/>
              </a:tabLst>
            </a:pPr>
            <a:r>
              <a:rPr b="0" lang="ja-JP" sz="3100" spc="-1" strike="noStrike">
                <a:solidFill>
                  <a:srgbClr val="000000"/>
                </a:solidFill>
                <a:latin typeface="Calibri"/>
              </a:rPr>
              <a:t>・ページサイズが</a:t>
            </a: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300×850mm</a:t>
            </a:r>
            <a:r>
              <a:rPr b="0" lang="ja-JP" sz="3100" spc="-1" strike="noStrike">
                <a:solidFill>
                  <a:srgbClr val="000000"/>
                </a:solidFill>
                <a:latin typeface="Calibri"/>
              </a:rPr>
              <a:t>サイズになっています。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2365200"/>
                <a:tab algn="l" pos="4730760"/>
                <a:tab algn="l" pos="7095960"/>
                <a:tab algn="l" pos="94615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※</a:t>
            </a:r>
            <a:r>
              <a:rPr b="0" lang="ja-JP" sz="3100" spc="-1" strike="noStrike">
                <a:solidFill>
                  <a:srgbClr val="000000"/>
                </a:solidFill>
                <a:latin typeface="Calibri"/>
              </a:rPr>
              <a:t>当社で</a:t>
            </a: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600×1700mm</a:t>
            </a:r>
            <a:r>
              <a:rPr b="0" lang="ja-JP" sz="3100" spc="-1" strike="noStrike">
                <a:solidFill>
                  <a:srgbClr val="000000"/>
                </a:solidFill>
                <a:latin typeface="Calibri"/>
              </a:rPr>
              <a:t>まで拡大します。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2365200"/>
                <a:tab algn="l" pos="4730760"/>
                <a:tab algn="l" pos="7095960"/>
                <a:tab algn="l" pos="9461520"/>
              </a:tabLst>
            </a:pPr>
            <a:r>
              <a:rPr b="0" lang="ja-JP" sz="3100" spc="-1" strike="noStrike">
                <a:solidFill>
                  <a:srgbClr val="000000"/>
                </a:solidFill>
                <a:latin typeface="Calibri"/>
              </a:rPr>
              <a:t>・余白やフチが必要無い場合は端まで描画してください。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2365200"/>
                <a:tab algn="l" pos="4730760"/>
                <a:tab algn="l" pos="7095960"/>
                <a:tab algn="l" pos="9461520"/>
              </a:tabLst>
            </a:pPr>
            <a:r>
              <a:rPr b="0" lang="ja-JP" sz="3100" spc="-1" strike="noStrike">
                <a:solidFill>
                  <a:srgbClr val="000000"/>
                </a:solidFill>
                <a:latin typeface="Calibri"/>
              </a:rPr>
              <a:t>・入稿データにする時は「名前を付けて保存」→「ＰＤＦ形式」で保存してください。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2365200"/>
                <a:tab algn="l" pos="4730760"/>
                <a:tab algn="l" pos="7095960"/>
                <a:tab algn="l" pos="9461520"/>
              </a:tabLst>
            </a:pPr>
            <a:r>
              <a:rPr b="0" lang="ja-JP" sz="3100" spc="-1" strike="noStrike">
                <a:solidFill>
                  <a:srgbClr val="000000"/>
                </a:solidFill>
                <a:latin typeface="Calibri"/>
              </a:rPr>
              <a:t>・四隅に、直径</a:t>
            </a: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24mm</a:t>
            </a:r>
            <a:r>
              <a:rPr b="0" lang="ja-JP" sz="3100" spc="-1" strike="noStrike">
                <a:solidFill>
                  <a:srgbClr val="000000"/>
                </a:solidFill>
                <a:latin typeface="Calibri"/>
              </a:rPr>
              <a:t>のハトメが付きます。必要なデザインや文字が重ならないようにご注意ください。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2365200"/>
                <a:tab algn="l" pos="4730760"/>
                <a:tab algn="l" pos="7095960"/>
                <a:tab algn="l" pos="9461520"/>
              </a:tabLst>
            </a:pPr>
            <a:fld id="{CF7D344A-6EA8-4DEB-9C72-920D077256A4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40000" y="1220760"/>
            <a:ext cx="9719640" cy="51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365200"/>
                <a:tab algn="l" pos="4730760"/>
                <a:tab algn="l" pos="7095960"/>
                <a:tab algn="l" pos="9461520"/>
              </a:tabLst>
            </a:pPr>
            <a:endParaRPr b="0" lang="en-US" sz="1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40000" y="7161120"/>
            <a:ext cx="9719640" cy="84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75"/>
              </a:spcBef>
              <a:buNone/>
              <a:tabLst>
                <a:tab algn="l" pos="2365200"/>
                <a:tab algn="l" pos="4730760"/>
                <a:tab algn="l" pos="7095960"/>
                <a:tab algn="l" pos="94615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40000" y="16431840"/>
            <a:ext cx="9719640" cy="84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75"/>
              </a:spcBef>
              <a:buNone/>
              <a:tabLst>
                <a:tab algn="l" pos="2365200"/>
                <a:tab algn="l" pos="4730760"/>
                <a:tab algn="l" pos="7095960"/>
                <a:tab algn="l" pos="94615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40000" y="1220760"/>
            <a:ext cx="9719640" cy="51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365200"/>
                <a:tab algn="l" pos="4730760"/>
                <a:tab algn="l" pos="7095960"/>
                <a:tab algn="l" pos="9461520"/>
              </a:tabLst>
            </a:pPr>
            <a:endParaRPr b="0" lang="en-US" sz="1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40000" y="7161120"/>
            <a:ext cx="4743000" cy="84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75"/>
              </a:spcBef>
              <a:buNone/>
              <a:tabLst>
                <a:tab algn="l" pos="2365200"/>
                <a:tab algn="l" pos="4730760"/>
                <a:tab algn="l" pos="7095960"/>
                <a:tab algn="l" pos="94615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520600" y="7161120"/>
            <a:ext cx="4743000" cy="84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75"/>
              </a:spcBef>
              <a:buNone/>
              <a:tabLst>
                <a:tab algn="l" pos="2365200"/>
                <a:tab algn="l" pos="4730760"/>
                <a:tab algn="l" pos="7095960"/>
                <a:tab algn="l" pos="94615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40000" y="16431840"/>
            <a:ext cx="4743000" cy="84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75"/>
              </a:spcBef>
              <a:buNone/>
              <a:tabLst>
                <a:tab algn="l" pos="2365200"/>
                <a:tab algn="l" pos="4730760"/>
                <a:tab algn="l" pos="7095960"/>
                <a:tab algn="l" pos="94615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5520600" y="16431840"/>
            <a:ext cx="4743000" cy="84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75"/>
              </a:spcBef>
              <a:buNone/>
              <a:tabLst>
                <a:tab algn="l" pos="2365200"/>
                <a:tab algn="l" pos="4730760"/>
                <a:tab algn="l" pos="7095960"/>
                <a:tab algn="l" pos="94615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0000" y="1220760"/>
            <a:ext cx="9719640" cy="51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365200"/>
                <a:tab algn="l" pos="4730760"/>
                <a:tab algn="l" pos="7095960"/>
                <a:tab algn="l" pos="9461520"/>
              </a:tabLst>
            </a:pPr>
            <a:endParaRPr b="0" lang="en-US" sz="1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0000" y="7161120"/>
            <a:ext cx="3129480" cy="84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75"/>
              </a:spcBef>
              <a:buNone/>
              <a:tabLst>
                <a:tab algn="l" pos="2365200"/>
                <a:tab algn="l" pos="4730760"/>
                <a:tab algn="l" pos="7095960"/>
                <a:tab algn="l" pos="94615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26440" y="7161120"/>
            <a:ext cx="3129480" cy="84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75"/>
              </a:spcBef>
              <a:buNone/>
              <a:tabLst>
                <a:tab algn="l" pos="2365200"/>
                <a:tab algn="l" pos="4730760"/>
                <a:tab algn="l" pos="7095960"/>
                <a:tab algn="l" pos="94615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112520" y="7161120"/>
            <a:ext cx="3129480" cy="84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75"/>
              </a:spcBef>
              <a:buNone/>
              <a:tabLst>
                <a:tab algn="l" pos="2365200"/>
                <a:tab algn="l" pos="4730760"/>
                <a:tab algn="l" pos="7095960"/>
                <a:tab algn="l" pos="94615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0000" y="16431840"/>
            <a:ext cx="3129480" cy="84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75"/>
              </a:spcBef>
              <a:buNone/>
              <a:tabLst>
                <a:tab algn="l" pos="2365200"/>
                <a:tab algn="l" pos="4730760"/>
                <a:tab algn="l" pos="7095960"/>
                <a:tab algn="l" pos="94615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826440" y="16431840"/>
            <a:ext cx="3129480" cy="84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75"/>
              </a:spcBef>
              <a:buNone/>
              <a:tabLst>
                <a:tab algn="l" pos="2365200"/>
                <a:tab algn="l" pos="4730760"/>
                <a:tab algn="l" pos="7095960"/>
                <a:tab algn="l" pos="94615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7112520" y="16431840"/>
            <a:ext cx="3129480" cy="84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75"/>
              </a:spcBef>
              <a:buNone/>
              <a:tabLst>
                <a:tab algn="l" pos="2365200"/>
                <a:tab algn="l" pos="4730760"/>
                <a:tab algn="l" pos="7095960"/>
                <a:tab algn="l" pos="94615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40000" y="1220760"/>
            <a:ext cx="9719640" cy="51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365200"/>
                <a:tab algn="l" pos="4730760"/>
                <a:tab algn="l" pos="7095960"/>
                <a:tab algn="l" pos="9461520"/>
              </a:tabLst>
            </a:pPr>
            <a:endParaRPr b="0" lang="en-US" sz="1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540000" y="7161120"/>
            <a:ext cx="9719640" cy="177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75"/>
              </a:spcBef>
              <a:buNone/>
              <a:tabLst>
                <a:tab algn="l" pos="0"/>
                <a:tab algn="l" pos="2365200"/>
                <a:tab algn="l" pos="4730760"/>
                <a:tab algn="l" pos="7095960"/>
                <a:tab algn="l" pos="94615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40000" y="1220760"/>
            <a:ext cx="9719640" cy="51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365200"/>
                <a:tab algn="l" pos="4730760"/>
                <a:tab algn="l" pos="7095960"/>
                <a:tab algn="l" pos="9461520"/>
              </a:tabLst>
            </a:pPr>
            <a:endParaRPr b="0" lang="en-US" sz="1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540000" y="7161120"/>
            <a:ext cx="9719640" cy="177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75"/>
              </a:spcBef>
              <a:buNone/>
              <a:tabLst>
                <a:tab algn="l" pos="2365200"/>
                <a:tab algn="l" pos="4730760"/>
                <a:tab algn="l" pos="7095960"/>
                <a:tab algn="l" pos="94615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40000" y="1220760"/>
            <a:ext cx="9719640" cy="51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365200"/>
                <a:tab algn="l" pos="4730760"/>
                <a:tab algn="l" pos="7095960"/>
                <a:tab algn="l" pos="9461520"/>
              </a:tabLst>
            </a:pPr>
            <a:endParaRPr b="0" lang="en-US" sz="1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540000" y="7161120"/>
            <a:ext cx="4743000" cy="177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75"/>
              </a:spcBef>
              <a:buNone/>
              <a:tabLst>
                <a:tab algn="l" pos="2365200"/>
                <a:tab algn="l" pos="4730760"/>
                <a:tab algn="l" pos="7095960"/>
                <a:tab algn="l" pos="94615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5520600" y="7161120"/>
            <a:ext cx="4743000" cy="177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75"/>
              </a:spcBef>
              <a:buNone/>
              <a:tabLst>
                <a:tab algn="l" pos="2365200"/>
                <a:tab algn="l" pos="4730760"/>
                <a:tab algn="l" pos="7095960"/>
                <a:tab algn="l" pos="94615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0000" y="1220760"/>
            <a:ext cx="9719640" cy="51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365200"/>
                <a:tab algn="l" pos="4730760"/>
                <a:tab algn="l" pos="7095960"/>
                <a:tab algn="l" pos="9461520"/>
              </a:tabLst>
            </a:pPr>
            <a:endParaRPr b="0" lang="en-US" sz="1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540000" y="1220760"/>
            <a:ext cx="9719640" cy="236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75"/>
              </a:spcBef>
              <a:tabLst>
                <a:tab algn="l" pos="0"/>
                <a:tab algn="l" pos="2365200"/>
                <a:tab algn="l" pos="4730760"/>
                <a:tab algn="l" pos="7095960"/>
                <a:tab algn="l" pos="94615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0000" y="1220760"/>
            <a:ext cx="9719640" cy="51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365200"/>
                <a:tab algn="l" pos="4730760"/>
                <a:tab algn="l" pos="7095960"/>
                <a:tab algn="l" pos="9461520"/>
              </a:tabLst>
            </a:pPr>
            <a:endParaRPr b="0" lang="en-US" sz="1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0000" y="7161120"/>
            <a:ext cx="4743000" cy="84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75"/>
              </a:spcBef>
              <a:buNone/>
              <a:tabLst>
                <a:tab algn="l" pos="2365200"/>
                <a:tab algn="l" pos="4730760"/>
                <a:tab algn="l" pos="7095960"/>
                <a:tab algn="l" pos="94615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520600" y="7161120"/>
            <a:ext cx="4743000" cy="177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75"/>
              </a:spcBef>
              <a:buNone/>
              <a:tabLst>
                <a:tab algn="l" pos="2365200"/>
                <a:tab algn="l" pos="4730760"/>
                <a:tab algn="l" pos="7095960"/>
                <a:tab algn="l" pos="94615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540000" y="16431840"/>
            <a:ext cx="4743000" cy="84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75"/>
              </a:spcBef>
              <a:buNone/>
              <a:tabLst>
                <a:tab algn="l" pos="2365200"/>
                <a:tab algn="l" pos="4730760"/>
                <a:tab algn="l" pos="7095960"/>
                <a:tab algn="l" pos="94615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40000" y="1220760"/>
            <a:ext cx="9719640" cy="51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365200"/>
                <a:tab algn="l" pos="4730760"/>
                <a:tab algn="l" pos="7095960"/>
                <a:tab algn="l" pos="9461520"/>
              </a:tabLst>
            </a:pPr>
            <a:endParaRPr b="0" lang="en-US" sz="1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40000" y="7161120"/>
            <a:ext cx="4743000" cy="177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75"/>
              </a:spcBef>
              <a:buNone/>
              <a:tabLst>
                <a:tab algn="l" pos="2365200"/>
                <a:tab algn="l" pos="4730760"/>
                <a:tab algn="l" pos="7095960"/>
                <a:tab algn="l" pos="94615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520600" y="7161120"/>
            <a:ext cx="4743000" cy="84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75"/>
              </a:spcBef>
              <a:buNone/>
              <a:tabLst>
                <a:tab algn="l" pos="2365200"/>
                <a:tab algn="l" pos="4730760"/>
                <a:tab algn="l" pos="7095960"/>
                <a:tab algn="l" pos="94615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520600" y="16431840"/>
            <a:ext cx="4743000" cy="84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75"/>
              </a:spcBef>
              <a:buNone/>
              <a:tabLst>
                <a:tab algn="l" pos="2365200"/>
                <a:tab algn="l" pos="4730760"/>
                <a:tab algn="l" pos="7095960"/>
                <a:tab algn="l" pos="94615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40000" y="1220760"/>
            <a:ext cx="9719640" cy="51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365200"/>
                <a:tab algn="l" pos="4730760"/>
                <a:tab algn="l" pos="7095960"/>
                <a:tab algn="l" pos="9461520"/>
              </a:tabLst>
            </a:pPr>
            <a:endParaRPr b="0" lang="en-US" sz="1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40000" y="7161120"/>
            <a:ext cx="4743000" cy="84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75"/>
              </a:spcBef>
              <a:buNone/>
              <a:tabLst>
                <a:tab algn="l" pos="2365200"/>
                <a:tab algn="l" pos="4730760"/>
                <a:tab algn="l" pos="7095960"/>
                <a:tab algn="l" pos="94615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520600" y="7161120"/>
            <a:ext cx="4743000" cy="84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75"/>
              </a:spcBef>
              <a:buNone/>
              <a:tabLst>
                <a:tab algn="l" pos="2365200"/>
                <a:tab algn="l" pos="4730760"/>
                <a:tab algn="l" pos="7095960"/>
                <a:tab algn="l" pos="94615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40000" y="16431840"/>
            <a:ext cx="9719640" cy="84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75"/>
              </a:spcBef>
              <a:buNone/>
              <a:tabLst>
                <a:tab algn="l" pos="2365200"/>
                <a:tab algn="l" pos="4730760"/>
                <a:tab algn="l" pos="7095960"/>
                <a:tab algn="l" pos="94615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7T09:16:59Z</dcterms:created>
  <dc:creator>岡智之</dc:creator>
  <dc:description/>
  <dc:language>en-US</dc:language>
  <cp:lastModifiedBy>豊桑麻沙</cp:lastModifiedBy>
  <dcterms:modified xsi:type="dcterms:W3CDTF">2020-01-29T05:05:55Z</dcterms:modified>
  <cp:revision>14</cp:revision>
  <dc:subject/>
  <dc:title>スライド 1</dc:title>
</cp:coreProperties>
</file>