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542000" cy="26211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90D16E-1E5D-4305-A9FF-C185D8C04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012C35-CE47-42C9-B087-7D3FFC1265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6892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211200" y="613332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70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56892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211200" y="14073840"/>
            <a:ext cx="53730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1668744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27000" y="1045800"/>
            <a:ext cx="16687440" cy="2028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152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477720" y="1407384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7000" y="1045800"/>
            <a:ext cx="166874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2700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477720" y="6133320"/>
            <a:ext cx="814320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27000" y="14073840"/>
            <a:ext cx="16687440" cy="72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1:13Z</dcterms:modified>
  <cp:revision>1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