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6202025" cy="32404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9131F-F546-4C5D-90C4-CCA6C0186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8640"/>
          </a:xfrm>
          <a:prstGeom prst="rect">
            <a:avLst/>
          </a:prstGeom>
          <a:ln w="0">
            <a:noFill/>
          </a:ln>
        </p:spPr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用テンプレート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ページサイズ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0×9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イズになって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×1800m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で拡大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余白やフチが必要無い場合は端まで描画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入稿データにする時は「名前を付けて保存」→「ＰＤＦ形式」で保存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7FC0BB-A299-4B0E-B02F-F344466F5E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70400" y="758232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00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402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670400" y="17398800"/>
            <a:ext cx="469512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1458144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0000" y="1292760"/>
            <a:ext cx="14581440" cy="250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18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81440" y="1739880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0000" y="1292760"/>
            <a:ext cx="14581440" cy="541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000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81440" y="7582320"/>
            <a:ext cx="711540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0000" y="17398800"/>
            <a:ext cx="14581440" cy="89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61</Words>
  <Paragraphs>6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岡智之</cp:lastModifiedBy>
  <dcterms:modified xsi:type="dcterms:W3CDTF">2016-05-07T07:53:41Z</dcterms:modified>
  <cp:revision>1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ユーザー設定</vt:lpwstr>
  </property>
  <property fmtid="{D5CDD505-2E9C-101B-9397-08002B2CF9AE}" pid="4" name="Slides">
    <vt:r8>1</vt:r8>
  </property>
</Properties>
</file>