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6211213" cy="3708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6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DFE50-0701-4400-BC40-7D9A6250C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B16021-C89D-4C19-9AFD-27EA9F7B2D4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862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62000" y="867744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104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92862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7262000" y="19911600"/>
            <a:ext cx="759564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23589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310400" y="1479600"/>
            <a:ext cx="23589720" cy="287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21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398120" y="1991160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0400" y="1479600"/>
            <a:ext cx="23589720" cy="61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1040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3398120" y="8677440"/>
            <a:ext cx="11511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10400" y="19911600"/>
            <a:ext cx="23589720" cy="102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46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30:57Z</dcterms:modified>
  <cp:revision>13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