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1386800" cy="302799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B31DB9-39D6-42A7-A200-AB17164DF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08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A7F6DA-0D88-42C4-9025-6D8964F9B03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19247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069200" y="16258320"/>
            <a:ext cx="19247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9200" y="1625832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10932120" y="1625832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76920" y="708516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84640" y="708516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69200" y="1625832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7576920" y="1625832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4084640" y="16258320"/>
            <a:ext cx="619740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069200" y="7085160"/>
            <a:ext cx="19247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19247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069200" y="1208160"/>
            <a:ext cx="19247760" cy="234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069200" y="1625832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175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932120" y="1625832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9200" y="1208160"/>
            <a:ext cx="1924776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0932120" y="7085160"/>
            <a:ext cx="9392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9200" y="16258320"/>
            <a:ext cx="19247760" cy="83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0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  <Words>48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29:05Z</dcterms:modified>
  <cp:revision>6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