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122525" cy="2138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5AA59B-6D30-4D55-A9A4-C834B4BA7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D5D62-A1AE-490A-B7BB-D92DCB50D9C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500436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11483280"/>
            <a:ext cx="4382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1360980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9800" cy="1655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124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29560" y="1148328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9800" cy="35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29560" y="5004360"/>
            <a:ext cx="664128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11483280"/>
            <a:ext cx="13609800" cy="59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7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47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