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0279975" cy="428085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8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D7D41A-8A44-48E9-A0D4-C5E297A49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217600" y="685800"/>
            <a:ext cx="2422080" cy="3428640"/>
          </a:xfrm>
          <a:prstGeom prst="rect">
            <a:avLst/>
          </a:prstGeom>
          <a:ln w="0">
            <a:noFill/>
          </a:ln>
        </p:spPr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用テンプレート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ページサイズが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になってい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余白やフチが必要無い場合は端まで描画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入稿データにする時は「ＰＤＦ形式」で保存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9B274E-6E3A-461D-B4AB-78CC64F56E0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2725128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1513800" y="22985280"/>
            <a:ext cx="2725128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5477480" y="1001700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13800" y="2298528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15477480" y="2298528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877464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727640" y="10017000"/>
            <a:ext cx="877464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941480" y="10017000"/>
            <a:ext cx="877464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3800" y="22985280"/>
            <a:ext cx="877464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10727640" y="22985280"/>
            <a:ext cx="877464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9941480" y="22985280"/>
            <a:ext cx="877464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1513800" y="10017000"/>
            <a:ext cx="27251280" cy="248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27251280" cy="248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13298400" cy="248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15477480" y="10017000"/>
            <a:ext cx="13298400" cy="248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1513800" y="1707840"/>
            <a:ext cx="27251280" cy="331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477480" y="10017000"/>
            <a:ext cx="13298400" cy="248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1513800" y="2298528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13298400" cy="248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15477480" y="1001700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477480" y="2298528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15477480" y="1001700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13800" y="22985280"/>
            <a:ext cx="2725128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  <Words>48</Words>
  <Paragraphs>5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09:16:59Z</dcterms:created>
  <dc:creator>岡智之</dc:creator>
  <dc:description/>
  <dc:language>en-US</dc:language>
  <cp:lastModifiedBy>岡智之</cp:lastModifiedBy>
  <dcterms:modified xsi:type="dcterms:W3CDTF">2016-04-30T08:28:50Z</dcterms:modified>
  <cp:revision>7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ユーザー設定</vt:lpwstr>
  </property>
  <property fmtid="{D5CDD505-2E9C-101B-9397-08002B2CF9AE}" pid="4" name="Slides">
    <vt:r8>1</vt:r8>
  </property>
</Properties>
</file>