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5122525" cy="2138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943977-B6E8-48BE-B9B7-4DAD50EE2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216160" y="685800"/>
            <a:ext cx="2425320" cy="3428640"/>
          </a:xfrm>
          <a:prstGeom prst="rect">
            <a:avLst/>
          </a:prstGeom>
          <a:ln w="0">
            <a:noFill/>
          </a:ln>
        </p:spPr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用テンプレート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ページサイズが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になってい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余白やフチが必要無い場合は端まで描画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入稿データにする時は「ＰＤＦ形式」で保存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B0FF83-EC90-4801-9E67-AE815645A86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6000" y="5004360"/>
            <a:ext cx="1360980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56000" y="11483280"/>
            <a:ext cx="1360980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000" y="500436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729560" y="500436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000" y="1148328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7729560" y="1148328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6000" y="5004360"/>
            <a:ext cx="4382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7880" y="5004360"/>
            <a:ext cx="4382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59400" y="5004360"/>
            <a:ext cx="4382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56000" y="11483280"/>
            <a:ext cx="4382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5357880" y="11483280"/>
            <a:ext cx="4382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9959400" y="11483280"/>
            <a:ext cx="4382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756000" y="5004360"/>
            <a:ext cx="13609800" cy="12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756000" y="5004360"/>
            <a:ext cx="13609800" cy="12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56000" y="5004360"/>
            <a:ext cx="6641280" cy="12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7729560" y="5004360"/>
            <a:ext cx="6641280" cy="12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756000" y="853200"/>
            <a:ext cx="13609800" cy="165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000" y="500436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29560" y="5004360"/>
            <a:ext cx="6641280" cy="12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756000" y="1148328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56000" y="5004360"/>
            <a:ext cx="6641280" cy="12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7729560" y="500436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729560" y="1148328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6000" y="500436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729560" y="500436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6000" y="11483280"/>
            <a:ext cx="1360980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テーマ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  <Words>48</Words>
  <Paragraphs>5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7T09:16:59Z</dcterms:created>
  <dc:creator>岡智之</dc:creator>
  <dc:description/>
  <dc:language>en-US</dc:language>
  <cp:lastModifiedBy>岡智之</cp:lastModifiedBy>
  <dcterms:modified xsi:type="dcterms:W3CDTF">2016-04-30T08:29:47Z</dcterms:modified>
  <cp:revision>7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ユーザー設定</vt:lpwstr>
  </property>
  <property fmtid="{D5CDD505-2E9C-101B-9397-08002B2CF9AE}" pid="4" name="Slides">
    <vt:r8>1</vt:r8>
  </property>
</Properties>
</file>