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6202025" cy="32404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681763-CDEA-4297-817B-A0CE4F42D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0×9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まで拡大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名前を付けて保存」→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600A6B-43BE-44B2-B736-003810089B7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704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00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402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6704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0000" y="1292760"/>
            <a:ext cx="14581440" cy="250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  <Words>61</Words>
  <Paragraphs>6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5-07T07:53:41Z</dcterms:modified>
  <cp:revision>1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